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7DC-E56A-4F9E-A0D8-D1A59D47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4D6-EA0F-4DEF-8C02-DC4A877F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1AF8-DB51-4FA1-9749-D675D0C8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3445-C454-4D39-A9EE-1BDE4F17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38B-366D-45C5-B32A-051E2E22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3EE0-C7D7-44C9-ACA7-1769392A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5ED5-88B2-4829-A914-A155B207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7E2-2835-41CB-A580-20A486AA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C31-BDBE-463E-A7B5-A219D36B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4E66-5203-4830-B486-CC8ADE96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3EC-B386-4CE9-BFF7-91C3BE1F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F41-769D-479B-B53F-738BF340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4971-EB72-4A01-90B5-5FD036767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53880"/>
            <a:ext cx="7696080" cy="5970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7696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바탕"/>
              </a:rPr>
              <a:t>ECHIP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바탕"/>
              </a:rPr>
              <a:t>CLAEI </a:t>
            </a: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I-III C</a:t>
            </a:r>
            <a:r>
              <a:rPr b="1" lang="en-US" sz="4000" spc="-1" strike="noStrike">
                <a:solidFill>
                  <a:srgbClr val="000000"/>
                </a:solidFill>
                <a:latin typeface="바탕"/>
              </a:rPr>
              <a:t> VA INVITA IN </a:t>
            </a: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NATU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lackadder ITC"/>
              </a:rPr>
              <a:t>Fenomene ale naturi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MEMBRI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ECHIPE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na  Cris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gy No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fi Brigi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ho Em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tas Sz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tas Norb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igeti Sandor    Indrumator: Halmagyi Izabe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371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3733920"/>
            <a:ext cx="1981440" cy="13716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nomene ale natur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gerul                                   Ninso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3:52:49Z</dcterms:created>
  <dc:creator>ws13</dc:creator>
  <dc:description/>
  <dc:language>en-US</dc:language>
  <cp:lastModifiedBy>ws13</cp:lastModifiedBy>
  <dcterms:modified xsi:type="dcterms:W3CDTF">2009-12-14T09:24:26Z</dcterms:modified>
  <cp:revision>3</cp:revision>
  <dc:subject/>
  <dc:title>ECHIPA CLASEI I-III C VA INVITA IN NATURA </dc:title>
</cp:coreProperties>
</file>